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Holly%20Jolly%20Christmas.wav" ContentType="audio/x-wav"/>
  <Override PartName="/ppt/media/image7.gif" ContentType="image/gif"/>
  <Override PartName="/ppt/media/image3.gif" ContentType="image/gif"/>
  <Override PartName="/ppt/media/image4.gif" ContentType="image/gif"/>
  <Override PartName="/ppt/media/image11.jpeg" ContentType="image/jpeg"/>
  <Override PartName="/ppt/media/image5.gif" ContentType="image/gif"/>
  <Override PartName="/ppt/media/image6.gif" ContentType="image/gif"/>
  <Override PartName="/ppt/media/image10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AA60-2A88-46F5-AC2C-F5C1CE420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1B08-4ED7-4E5A-8072-E8E694C73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E1C6-8853-4213-915E-816A5459F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4DD1-0C0D-47F4-8280-87F5B1FB3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98B6-0B2B-4543-9011-7547FCE7C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EAEE-A8DA-44DC-BEE0-44A435B9F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333D-146B-4978-BA30-8A0EDD843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E9A4-D994-4DEC-85D2-B7DF33367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BAC0-9DE9-48A9-BFEE-41AD71E54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7C18-6892-4646-BD6F-4B169525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0F7E-2055-4B9B-8728-27F5E085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299D-16C9-4003-A0C6-9C7023DB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9620F-3CFA-4271-B793-CBC1CD775F4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Holly%20Jolly%20Christma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03280" y="620640"/>
            <a:ext cx="5689800" cy="265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holly jolly chrismas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780000" y="3213000"/>
            <a:ext cx="1855800" cy="3475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156360" y="4941720"/>
            <a:ext cx="25923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Sofía, </a:t>
            </a:r>
            <a:r>
              <a:rPr b="1" lang="en-US" sz="2000" spc="-1" strike="noStrike">
                <a:solidFill>
                  <a:srgbClr val="3366ff"/>
                </a:solidFill>
                <a:latin typeface="Times New Roman"/>
              </a:rPr>
              <a:t>César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y </a:t>
            </a:r>
            <a:r>
              <a:rPr b="1" lang="en-US" sz="2000" spc="-1" strike="noStrike">
                <a:solidFill>
                  <a:srgbClr val="cc00ff"/>
                </a:solidFill>
                <a:latin typeface="Times New Roman"/>
              </a:rPr>
              <a:t>Andrea Esp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Times New Roman"/>
              </a:rPr>
              <a:t>ALBA, CARLOS Y ALBER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Have a holly jolly christmas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it’s the best time of the yea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47640" y="1844640"/>
            <a:ext cx="6034320" cy="4525920"/>
          </a:xfrm>
          <a:prstGeom prst="rect">
            <a:avLst/>
          </a:prstGeom>
          <a:ln w="0">
            <a:noFill/>
          </a:ln>
        </p:spPr>
      </p:pic>
    </p:spTree>
  </p:cSld>
  <p:transition spd="slow" advTm="19000">
    <p:split dir="out" orient="horz"/>
    <p:sndAc>
      <p:stSnd>
        <p:snd r:embed="rId2" name="Holly%20Jolly%20Christma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don’t know if there’ll be snow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t have a cup of che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340000" y="2664000"/>
            <a:ext cx="4824360" cy="36842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Have a holly jolly christmas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and when you walk down the stre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41280" y="3716280"/>
            <a:ext cx="2008080" cy="2676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916360" y="2276640"/>
            <a:ext cx="5472000" cy="41036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Say hello to friends you  know 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and everyone you me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4797360"/>
            <a:ext cx="2152800" cy="1600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627280" y="1989000"/>
            <a:ext cx="3694320" cy="4273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991200" y="4653000"/>
            <a:ext cx="2152800" cy="16002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613080" y="7646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O HO the mistletoe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ung where you can s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18920" y="378900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3300"/>
                </a:solidFill>
                <a:latin typeface="Arial"/>
              </a:rPr>
              <a:t>Somebody waits for you</a:t>
            </a:r>
            <a:br>
              <a:rPr sz="2800"/>
            </a:br>
            <a:r>
              <a:rPr b="0" lang="es-ES" sz="2800" spc="-1" strike="noStrike">
                <a:solidFill>
                  <a:srgbClr val="ff3300"/>
                </a:solidFill>
                <a:latin typeface="Arial"/>
              </a:rPr>
              <a:t>kiss her once for 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32000" y="333000"/>
            <a:ext cx="60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ff"/>
                </a:solidFill>
                <a:latin typeface="Arial"/>
              </a:rPr>
              <a:t>Have a holly jolly christmas</a:t>
            </a:r>
            <a:br>
              <a:rPr sz="3200"/>
            </a:br>
            <a:r>
              <a:rPr b="0" lang="es-ES" sz="3200" spc="-1" strike="noStrike">
                <a:solidFill>
                  <a:srgbClr val="ff00ff"/>
                </a:solidFill>
                <a:latin typeface="Arial"/>
              </a:rPr>
              <a:t>and in case you didn´t h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12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ffff"/>
                </a:solidFill>
                <a:latin typeface="Arial"/>
              </a:rPr>
              <a:t>Oh by golly have a holly jolly christmas this y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09:07:00Z</dcterms:created>
  <dc:creator>pc10</dc:creator>
  <dc:description/>
  <dc:language>en-US</dc:language>
  <cp:lastModifiedBy>pc10</cp:lastModifiedBy>
  <dcterms:modified xsi:type="dcterms:W3CDTF">2011-12-19T11:51:04Z</dcterms:modified>
  <cp:revision>5</cp:revision>
  <dc:subject/>
  <dc:title>Diapositiva 1</dc:title>
</cp:coreProperties>
</file>